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0F83-C961-4CFC-8E7C-5FF6D9A4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594-E131-4201-8607-9F76A37B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ABF3-6FB9-483F-88FE-450FD74C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9CA0-13C7-4F7D-84F6-00FD89DB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FD8-9484-4259-9B40-81F27D84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ECD-6FE2-40E1-8351-C6074D16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39F-23FB-44A0-BC54-C497A5A7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321B-E6B1-4325-8C94-EFA6EA12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121-3385-4780-8981-CC5BE2F2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39F-8F75-4404-A957-A4DDCE93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EBF3-9E05-4DC8-81C3-967065B7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394-31A3-4734-9524-F53E2D20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51D1-F6C3-45CF-ABC7-86DEFA49E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80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Essay Question due Monday (FR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8580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hy was New England opposed to the War of 1812? What role did the expansion of the United States play in this [desire for war]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Out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tro Para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t’l events leading up to War of 18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Domestic forces encouraging the war [War Hawk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extent of the opposition to the American war eff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ays in which the New England Federalists attempted to show their obj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end of the War of 1812, and trea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onclusion (mention Era of Good Feeling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**You may ONLY use your textbook and maps to do this essay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sing ANYTHING from the Internet will = automatic ZERO (0)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Anchor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all examples and arguments with a DATE &amp;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veryone understand????? Excell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644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RQ – Information Li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523880"/>
            <a:ext cx="4152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ar Hawks (Clay &amp; Calh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anish Flo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dian R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inckney’s Trea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hesapeake-Leopard Inc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mbargo Act 18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rce Act (pg. 2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n-Intercourse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con’s Bill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ps on page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6480" y="1523880"/>
            <a:ext cx="4152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arrison Land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lliam Henry Har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ecumse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ritish relations with In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attle of Fallen Timbers (British refused to aid Indi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ecumseh's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attle of Tippecan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sire for Florida as cause of war (Spain = GB’s 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dea of territorial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artford Con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End of Federalist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Treaty of Gh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8:32:14Z</dcterms:created>
  <dc:creator>56020</dc:creator>
  <dc:description/>
  <dc:language>en-US</dc:language>
  <cp:lastModifiedBy>56020</cp:lastModifiedBy>
  <dcterms:modified xsi:type="dcterms:W3CDTF">2010-10-27T18:32:15Z</dcterms:modified>
  <cp:revision>1</cp:revision>
  <dc:subject/>
  <dc:title>Slide 1</dc:title>
</cp:coreProperties>
</file>